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034040" cy="9194760"/>
          </a:xfrm>
          <a:custGeom>
            <a:avLst/>
            <a:gdLst>
              <a:gd name="textAreaLeft" fmla="*/ 360 w 7034040"/>
              <a:gd name="textAreaRight" fmla="*/ 7033680 w 703404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235">
                <a:moveTo>
                  <a:pt x="4" y="0"/>
                </a:moveTo>
                <a:arcTo wR="4" hR="4" stAng="16200000" swAng="-5400000"/>
                <a:lnTo>
                  <a:pt x="0" y="28231"/>
                </a:lnTo>
                <a:arcTo wR="4" hR="4" stAng="10800000" swAng="-5400000"/>
                <a:lnTo>
                  <a:pt x="21596" y="2823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3986280" y="0"/>
            <a:ext cx="3039840" cy="455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219320" y="688680"/>
            <a:ext cx="458784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37800" y="4367160"/>
            <a:ext cx="5149800" cy="4137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8"/>
          </p:nvPr>
        </p:nvSpPr>
        <p:spPr>
          <a:xfrm>
            <a:off x="-360" y="8736120"/>
            <a:ext cx="3040200" cy="44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9"/>
          </p:nvPr>
        </p:nvSpPr>
        <p:spPr>
          <a:xfrm>
            <a:off x="3986280" y="8736120"/>
            <a:ext cx="3039840" cy="44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B25AC-304C-40A9-9880-9F2AC19FB5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91C-595B-4E82-A6F9-8162179B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47A-3761-4A6D-8051-34768C75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9FC-0AA2-4C49-8410-E7C9D17B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764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240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9764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240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443-3EAF-415D-9EC7-9AAA8427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5032-C07E-4E5E-9744-18C2D7BD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1F12-A00B-462E-910C-816A4DC6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2097-3E61-40F9-9A52-1D8DE30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2679-1AA7-40E8-9D61-29B9E1F9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BB3F-F6E6-4203-96F4-F149B445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626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0108-F27F-4D9A-AD3F-4F0289F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9B86-E5CF-4B61-AD91-C54878C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AA2-E6E8-4F64-A76C-2D4261D1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1907-0DA8-42AC-AB7A-2A9BD73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B872-6DCE-429D-B9B2-D1533967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25A-59D2-47BC-AD46-2C94124D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FED-BC67-4D0D-877C-EF720596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9764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2400" y="198108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9764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2400" y="4129920"/>
            <a:ext cx="2499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3D60-34A9-4358-A1E6-E8A932D3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448-83CD-4A21-B82A-3972F00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76B-4CEE-470E-990C-8C17FBF4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F3C-19C8-4430-9360-097A47D5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626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04F-BF1B-4FA2-911E-AA4D3CE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9C7-5601-4970-A97E-F3C5971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0520" y="412992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E54-6429-4BC7-816B-137818C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0520" y="1981080"/>
            <a:ext cx="3787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626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388-5C37-499A-85FB-6900DBC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1149480"/>
            <a:ext cx="1080360" cy="9156960"/>
            <a:chOff x="-720" y="-1149480"/>
            <a:chExt cx="1080360" cy="9156960"/>
          </a:xfrm>
        </p:grpSpPr>
        <p:grpSp>
          <p:nvGrpSpPr>
            <p:cNvPr id="1" name=""/>
            <p:cNvGrpSpPr/>
            <p:nvPr/>
          </p:nvGrpSpPr>
          <p:grpSpPr>
            <a:xfrm>
              <a:off x="166680" y="-1149480"/>
              <a:ext cx="762120" cy="9156960"/>
              <a:chOff x="166680" y="-1149480"/>
              <a:chExt cx="762120" cy="915696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174600" y="-1149480"/>
                <a:ext cx="74304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174600" y="111456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174600" y="573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174600" y="-94464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74600" y="16992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174600" y="-236520"/>
                <a:ext cx="74304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74600" y="-647640"/>
                <a:ext cx="752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168120" y="4111560"/>
                <a:ext cx="74304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68120" y="3570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68120" y="205092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168120" y="316548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168120" y="2760840"/>
                <a:ext cx="74304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166680" y="2347920"/>
                <a:ext cx="752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74600" y="548640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4600" y="494496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68120" y="6423120"/>
                <a:ext cx="743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25440" y="7404120"/>
                <a:ext cx="462240" cy="744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68120" y="7132680"/>
                <a:ext cx="74304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6680" y="6719760"/>
                <a:ext cx="752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49840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62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2880" y="1981080"/>
            <a:ext cx="7762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895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894CB-3DFF-4582-9254-E17E38F03C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38240" cy="1012320"/>
              <a:chOff x="-3600" y="2479680"/>
              <a:chExt cx="9138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79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0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887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38240" y="278208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240" y="2750760"/>
                <a:ext cx="990720" cy="466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40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832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52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34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40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212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6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0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2880" y="198360"/>
            <a:ext cx="776268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40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09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668EB-2B19-4333-878A-B7D825A632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ebstandards.org/learn/faq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ikimatrix.org/" TargetMode="External"/><Relationship Id="rId2" Type="http://schemas.openxmlformats.org/officeDocument/2006/relationships/hyperlink" Target="http://c2.com/cgi/wiki/WikiDesignPrinciple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106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Blog @ the </a:t>
            </a:r>
            <a:br>
              <a:rPr sz="4400"/>
            </a:b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      School Library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033640"/>
            <a:ext cx="7772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YSIWYG web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limit or maintain levels of access i.e., public, staff,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sted off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 suppor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blogs ar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How Are Blogs Us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356840"/>
            <a:ext cx="77724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lideshare.net/informationgoddess29/edco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724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67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HTML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are im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s and links are instant &amp; aut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one knows everything, but everyone knows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hands make ligh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s are easy to view and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Web Standards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ebstandards.org/learn/faq/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Blog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d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ology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er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Do Blogs Work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one owns it, so everyone is responsible and feels a sens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 groups of volunteers are very de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ream rises to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s generate a culture of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ourse is court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en Do Blogs Fa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m, though discouraged and deleted, still rears it’s ugly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greement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ries and threads get off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urnalistic ethics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ing canbe a very personal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129204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Examples of Blo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104760"/>
            <a:ext cx="77644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1680" cy="23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el.icio.us/informationgoddess29/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eb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Matri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for comparison of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ikimatrix.org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ki Design Princi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 list of concepts by creator 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2.com/cgi/wiki/WikiDesignPrincipl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Prin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nningham, Ward and Bo Leuf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Wiki Way: Collaborating and Sharing the Interne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Addison-Wesley, 2001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bersbach, Anja et al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ki: Web Collabora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pringer, 2005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short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 simple webpage in chronological format, updated regul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ten convey a persona or personality, and can be created with a minimum of technology know-h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also be a verb, meaning, the action of composing and maintaining a weblog, as in this sentence: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g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yone can become a web auth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like a bulletin board or newsgroup where people can post and respond to messages, with the incorporation of links, images, sound and video for an attractive, multimedia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’s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blog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combination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at Makes it a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ronological p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SS 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ing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Types of Blo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511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al (celebrities, writers, YOU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porate (companies, businesse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tical (candidates, organization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 &amp; student (schools,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rary (public, private, school,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o blogs (podcast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oto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deo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Why Blo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hare or convey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romote or market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ress a viewpoint or age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ress yourself/your 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or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eet like-minded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What’s a Wiki</dc:title>
</cp:coreProperties>
</file>